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08ABA-A775-40C8-9517-9DF920649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034A0-6613-4062-B663-11714DBE7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13574-D6C5-48B0-A271-1E5F4DCEE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BABB1-0FA5-469A-9C61-0D3B6983B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412A4-1B7B-4B1C-B1CE-BE60A697B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F3C0B-8FCD-4363-A8BD-566FC678F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52DF1-FEBA-4871-957A-4E32DE19C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B944A-2A0D-4719-8EE9-544345A8A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77A72-24AD-4A78-909A-5C57CCFCC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3934E-AE36-42E8-865E-A4FDA274E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15CFA-DB96-4216-BCBC-C4B50CFD3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D1C92-B21E-41F0-8345-9390C1A8E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D20C8-9375-4DED-AC9E-F47D4B98BD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 descr=""/>
          <p:cNvPicPr/>
          <p:nvPr/>
        </p:nvPicPr>
        <p:blipFill>
          <a:blip r:embed="rId1"/>
          <a:stretch/>
        </p:blipFill>
        <p:spPr>
          <a:xfrm>
            <a:off x="5148360" y="148428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LiviaT</cp:lastModifiedBy>
  <dcterms:modified xsi:type="dcterms:W3CDTF">2012-03-14T12:51:17Z</dcterms:modified>
  <cp:revision>42</cp:revision>
  <dc:subject/>
  <dc:title>SALARIUL</dc:title>
</cp:coreProperties>
</file>